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7E59-A43D-45A6-95D0-CE429526B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141A-320E-4565-9155-98F86038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3683-F410-482A-A5FD-D39E56305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B4D8-00B7-4AD4-9B9F-E84EE9AE4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CBCF-DE17-4223-86AE-50FC6E6F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1196-F472-4E10-8E83-31C82E34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B3B4-81C9-45DA-BAA6-512B23DA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A52B-4B18-49D2-8823-16A3AC6B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80A1-4D97-4C2A-BD9D-8FF8AB45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B3E9-5C91-404F-B2A9-70CA2BE8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A1F3-E12B-429C-AFD6-710FD7CC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96FC-1E9B-4319-8D35-75DE5A5E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033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2894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FD35A9B-646A-4B12-A93D-7BB9C62410BB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volution by natural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ff0000"/>
                </a:solidFill>
                <a:latin typeface="Times New Roman"/>
              </a:rPr>
              <a:t>Artificial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2743200" cy="2054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952880" y="4210200"/>
            <a:ext cx="2467080" cy="2257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990720" y="4038480"/>
            <a:ext cx="223992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6858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Times New Roman"/>
              </a:rPr>
              <a:t>Is evolution still happen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200400"/>
            <a:ext cx="6705720" cy="37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Antibiotic resistant bacteri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Insecticide resist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14479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Times New Roman"/>
              </a:rPr>
              <a:t>Can you think of any exampl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dur="indefinite" fill="hold">
                      <p:stCondLst>
                        <p:cond delay="indefinite"/>
                      </p:stCondLst>
                      <p:childTnLst>
                        <p:par>
                          <p:cTn id="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dur="indefinite" fill="hold">
                      <p:stCondLst>
                        <p:cond delay="indefinite"/>
                      </p:stCondLst>
                      <p:childTnLst>
                        <p:par>
                          <p:cTn id="1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534520" cy="644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Times New Roman"/>
              </a:rPr>
              <a:t>How do we know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Times New Roman"/>
              </a:rPr>
              <a:t>Are acquired characteristics heritab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371600" y="2209680"/>
            <a:ext cx="6229440" cy="44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09480" y="2292480"/>
            <a:ext cx="77724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ff0000"/>
                </a:solidFill>
                <a:latin typeface="Times New Roman"/>
              </a:rPr>
              <a:t>Why is evolution such a controversial topi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atural selection happens when individuals of a population have differing characteristics caused by their genes (heritab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ifferences between individuals mean that some individuals are better adapted to their environment than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2371680"/>
            <a:ext cx="7848720" cy="36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ecause of differences in their ge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Genes are made up of DNA and are found in every cell of your 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he genetic code is a set of instructions for making an entire organism with each gene coding for a specific protein.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380880"/>
            <a:ext cx="7924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Times New Roman"/>
              </a:rPr>
              <a:t>Why do individuals of the same species have variations in their characteristic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ff0000"/>
                </a:solidFill>
                <a:latin typeface="Times New Roman"/>
              </a:rPr>
              <a:t>Where does variation in the genes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n cells divide or gametes are formed the DNA is replicated (copi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metimes errors occur in the copying called mutations. Mutations are rando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se mutations change the code for making an organis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st of the time this has no effect or a negative effect on the organisms survival ch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ut sometimes these mutations can be benefi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dur="indefinite" fill="hold">
                      <p:stCondLst>
                        <p:cond delay="indefinite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Times New Roman"/>
              </a:rPr>
              <a:t>What will happen to the survival chances of better adapted individual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3581280"/>
            <a:ext cx="7925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More likely to survive and have more offspring than less well adapted individua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Times New Roman"/>
              </a:rPr>
              <a:t>What effect does this have on the gene poo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2286000"/>
            <a:ext cx="69343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When organisms reproduce they pass on their 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rganisms with beneficial characteristics are more likely to pass on their 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he frequency of the genes that cause these beneficial characteristics will increase from generation 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Darwin’s finc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5334120" cy="4124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33520" y="121932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hese finches are found on different islands of the Galapa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72200" y="1752480"/>
            <a:ext cx="23623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How are they simil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How are they differ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dur="indefinite" fill="hold">
                      <p:stCondLst>
                        <p:cond delay="indefinite"/>
                      </p:stCondLst>
                      <p:childTnLst>
                        <p:par>
                          <p:cTn id="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dur="indefinite" fill="hold">
                      <p:stCondLst>
                        <p:cond delay="indefinite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Darwin’s finc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4572000" cy="3535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3520" y="121932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6400" y="1752480"/>
            <a:ext cx="304812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milar because they share a common ances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fferent because of differing selection pressures on different is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21932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here are at least 13 different species of finch found in the Galapa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56386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ample of natural selection leading to speciation. Can no longer interbr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dur="indefinite" fill="hold">
                      <p:stCondLst>
                        <p:cond delay="indefinite"/>
                      </p:stCondLst>
                      <p:childTnLst>
                        <p:par>
                          <p:cTn id="1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dur="indefinite" fill="hold">
                      <p:stCondLst>
                        <p:cond delay="indefinite"/>
                      </p:stCondLst>
                      <p:childTnLst>
                        <p:par>
                          <p:cTn id="1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dur="indefinite" fill="hold">
                      <p:stCondLst>
                        <p:cond delay="indefinite"/>
                      </p:stCondLst>
                      <p:childTnLst>
                        <p:par>
                          <p:cTn id="1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dur="indefinite" fill="hold">
                      <p:stCondLst>
                        <p:cond delay="indefinite"/>
                      </p:stCondLst>
                      <p:childTnLst>
                        <p:par>
                          <p:cTn id="1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Times New Roman"/>
              </a:rPr>
              <a:t>Is evolution just a theory? What evidence is there to support i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4343400"/>
            <a:ext cx="3657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4286160" cy="31719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029200" y="1981080"/>
            <a:ext cx="39625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ossil record provides evidence for 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complete needs certain conditions to delay decay e.g. low temperature, low oxygen, highly acidic so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ften only hard parts e.g. skeleton are well preser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dur="indefinite" fill="hold">
                      <p:stCondLst>
                        <p:cond delay="indefinite"/>
                      </p:stCondLst>
                      <p:childTnLst>
                        <p:par>
                          <p:cTn id="1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dur="indefinite" fill="hold">
                      <p:stCondLst>
                        <p:cond delay="indefinite"/>
                      </p:stCondLst>
                      <p:childTnLst>
                        <p:par>
                          <p:cTn id="1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dur="indefinite" fill="hold">
                      <p:stCondLst>
                        <p:cond delay="indefinite"/>
                      </p:stCondLst>
                      <p:childTnLst>
                        <p:par>
                          <p:cTn id="1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3T12:03:26Z</dcterms:created>
  <dc:creator>Virginia Lound</dc:creator>
  <dc:description/>
  <dc:language>en-US</dc:language>
  <cp:lastModifiedBy>Virginia Lound</cp:lastModifiedBy>
  <dcterms:modified xsi:type="dcterms:W3CDTF">2012-11-04T14:09:27Z</dcterms:modified>
  <cp:revision>2</cp:revision>
  <dc:subject/>
  <dc:title>Evolution by natural selection</dc:title>
</cp:coreProperties>
</file>